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E860-D588-45F8-AD98-F00A180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EBB9-A6A7-48FA-8CAD-0BEC3F39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63E5-CDCB-4277-9544-5F3CE77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EE97-2873-4E48-9295-247A63E7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109FC-9D4D-450E-BE46-B5E51CB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FEE2-51DF-44A9-8094-7749226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0143-464A-4C42-A8A6-4FED7DF1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B22B3-9DD2-44F2-9098-F462F606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77200-CA85-45E5-A6A0-F52BBB1C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F205F-010E-4EFF-AD1C-279F54D7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7FF5-5279-4B41-9F79-BCB5F892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7113-3994-4D4D-B5DE-487C25A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55679-6D31-4B11-B699-0E3027E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3A1B9-9BCF-4179-8457-103FB454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3FC8-FEAE-43F8-8563-C7B2DDB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C105-DA9C-4B56-8113-CA8E66B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6AE8-908E-4FF9-BC61-2FFC35C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EEE2-C0AF-408F-9A13-D27401C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5D84-7CD0-40D8-9C84-91C1B94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1E25-8AF5-4C91-92CE-E245C5E2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CB83-2668-47B4-BB1D-F936AA13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844CB-2922-4CC8-9046-DDD6229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41CF2-6111-427F-AED1-05141D8F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B66F-5206-4544-99F4-D3B3A43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27C52-A468-4011-9233-561ECC6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968DD-9B22-4BFC-AD32-7E42607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7D9AC-BEB3-486B-B85C-0C74B6F7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C7651-2D9C-4350-AFE6-FB7011E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925A-60D3-4E94-9A6F-18375E3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5278-D326-4552-9AD8-4DEFFE1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D3247-C515-4F05-A3BE-3FD46B1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B3393-A9EF-4EDD-B356-DFC41BCD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6A0F-E6DB-487F-A5E1-E3D8555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55134-E3E2-482E-B249-E6323C75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C1275-0977-4DAC-968A-2568E27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A0A0-0261-4AC4-A71F-1539A3C4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1FC9A-2EFB-47B4-8AE0-8678684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F68F-0B74-4F97-9C68-FAE7D2C0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21148-1AF9-4B80-906D-DC99EA6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8D253-EDE2-4AED-A176-DC23416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A245F-EAD4-447F-9230-C3E297E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4D014-5A80-45D6-90F3-45A0EFC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B893-9458-44E0-9E13-B436607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BC04E-B8CE-4AFA-B312-0B06EC05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FA0C-99BE-40A4-8DBB-F407B4B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EEFB-32FC-408A-99B2-44DB0B88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A693-D7A1-447B-ACFE-7E422E4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75AE-DF14-4CA3-B41F-1563E0E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D8646-70BF-4F6A-B6E2-59C3552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2B354-B661-42C9-95DB-D55E356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972F-CEBF-4A05-896A-C8C09E3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014D-5F97-43D9-92DD-E70C192D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1DCA-005D-48E6-AF0B-F0C8637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7019F-AB0C-4E41-BF56-2DB5E64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0B61E-3E0B-4CEC-B4A4-F3F9CFAC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27F6-0DEB-4629-ADB3-620EC0B1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FEA7A-570D-46CC-9771-74A9977B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8B65C-0DAB-4054-AF32-BDB5373F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00CE-A971-43E8-8677-08FE931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C750C-631C-4673-9449-538FD44C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0915-9349-4206-AFEB-73BE634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79E03-4704-4710-A9A9-B9F4F550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E9B28-DA54-49F1-ADF3-38CDF33F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A4B4E-4F7C-4643-A3B6-2A7C2EE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88CD3-E6BF-4CCA-8BBD-CAFD793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BDD38-9250-4163-9ED8-4A8D073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61CE0-13F7-4BD3-9A8F-F187C725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1FD10-C99B-4AFF-890D-EAE36C15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865E9-498A-413F-8A44-1EF42846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9F4D2-457C-42DF-9918-981C732D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669DB-D4EA-46CF-AAB2-6277A40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5CA90-2447-4C22-8A97-BA47ABD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AA682-7DD9-4078-BA85-D581469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00B0E-E08E-4400-82D0-78A5E57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20A62-21A5-4AB5-A020-DE6EFDCD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20F75-D8EC-432A-B85F-9B0EA27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B2117-7ED7-4801-8330-212B3C6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A24BD-23F6-457A-BDA7-B78FB24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3A4F5-DB20-43E8-A37C-031DAECB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5C91-48DE-4442-A824-DED58F6C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7BAF3-C1B8-4211-9938-0A881569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762B6-5651-4A7A-8427-C19C0902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07A6D-8C3C-4CB7-9E33-CD9EFAB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33FEE-FEFD-4440-A013-22F10DDC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C1ABE-F035-4155-944B-1B5FE54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A0E1C-585A-4AFB-BCF1-7A65214A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681C8-E8B1-41FF-9EE0-9430C746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8432A-BC89-40F7-B7AC-E3CA832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3B508-1405-4693-80F4-C259749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51B5E-F962-46AA-9A47-67FC323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0172D-0795-4F7F-8752-3C89456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DD297-D4D3-44EE-AE93-82F7EA04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2FA31-147A-4E6C-BFD1-87D07235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F8A-D76A-476E-B902-031BB82B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9ED-06AB-43D7-9D0F-9114B7F5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C89-7422-46F2-BEB9-1F5A920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857-AA63-4C63-92A0-EAB57A2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7B6-8635-4636-817F-B88CD36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2C7-6363-472F-9ABC-DDBD9025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352-5175-48DA-8CE2-5A69E7B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10D-E271-4C95-80CE-9B716A2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FDD-2768-4750-A00F-5ED272BE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5B3-1EBD-4D7F-A0EB-5FDE979A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AC1-72A9-4E1F-BBC3-07524E2F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D8D-EFBE-4DB5-B2D3-D4D0261B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FDA2-85D7-48CE-B2C3-7C3C3459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FE67-7437-446C-BDDB-AEB69704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C0DE-8162-4601-B8C1-FB147794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37C-5367-4DA1-B783-73B5AAD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E26-A1AB-4099-A33A-DDA0314F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1C77-9361-48F8-A31A-7FE2D9D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476-2EA1-4B9D-8C7D-AD8D07D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6AA-D87F-4FCB-B483-5603276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6CD0-D6DC-4520-A3F7-877A29D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E200-246E-4ACC-8FE0-211242C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D23-262F-4C88-8172-ED430F4A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B2C0-227B-41CE-8D45-1332E94E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3551-7CCA-40BF-899A-8673A61C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28C2-1748-4F56-AC85-6E469C6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A166-B5BC-45DE-B91E-3DC35AE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E621-C9EC-48F2-B5D1-E4010C0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7A4B-7118-48AE-9BC1-80E295F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F06A-1162-49E5-8150-4C56498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2015-D16D-4883-8914-F0BE7E1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FDA6-5A25-4E7E-BBD2-C638D41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0657-BFB5-459F-BB7A-91D7614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9A1D-C655-4102-A25B-AAD327D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5E02-9CB4-4296-8B3B-0AB3D0EC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FAB8-A5F3-4247-B410-E9236B1C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D55A-28D1-4D11-A9AD-2E550293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5A7F-94DF-4B99-BE50-75FB943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4C7C-2DC0-4DE5-B6B9-3DCBAFC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9D9D-778E-4132-9605-A9575E5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5B63-0C20-47D6-8214-9598266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111A-ABD9-45FA-9124-399A1375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9A4E-7EEF-4633-93DA-3DFEC79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F14B-B567-4F08-8411-8732D96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CDD8-55F4-4161-931F-6232B39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0251-C4E2-4B99-9C37-28D633A3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89B3-9DC2-4B7D-85AF-C8B78E8D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D9B4-1CB5-4990-83A0-892C8037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0C06-7BF8-4542-9571-A3EC4D2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8B3F-7ED9-416D-9F61-DCC7FF5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84F4-0209-4445-8A6B-999AC88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5EF2A-8FC1-4D38-88D9-0078C05E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7B5D-C4E5-4AD8-8E6B-50F6ED8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48A3-E526-4440-B4B0-2E556FD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87FB-91F1-4CE4-8BDD-19DA3FA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8FFC-6EA0-4588-9038-AA17A82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C612-9FF5-407B-96A5-B93CDB1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26D68-8818-436D-B28B-37CFF2D5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C9C8-23DD-45C2-881A-135B15A7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2497-24E2-44BE-9F62-CF05E9D7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E461-6520-4D32-BC78-5E103371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7E58B-A0B8-47A6-A3BA-49D4AD38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5D19-E921-4F46-9051-4C7CB09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5785-B5FC-433D-8604-3ACCA1D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BB06-1E6A-4A24-B9A6-A0ABB981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A8C6-8A4E-4FB7-9054-18D55BD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FA22-02C7-4AEB-9D69-497659FD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C909-9D69-4098-8EF6-EBD023F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2D879-31FE-4625-A19B-2BD38D7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92A5-FAB2-4B17-A77B-371C054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EDFD-2CCD-4860-A4EC-59D3EBB5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519AB-13F7-487F-9B3E-DE2EAFF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D909-0EFF-49CF-B0D3-E6725D0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58B9-38BE-4813-B453-BD3D8FE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BB064-5815-43A5-BA5A-7CB9B8E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140-F04C-4008-AD37-E6E1547A53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485-CB86-4565-827D-074A77D725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76FE-4D97-4FDC-9C77-98F6A6BBD0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DC4-9BE0-4556-8C2E-D2CF6AD3E7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38B0-DD3D-41D7-933A-43A31FAD14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468-9AF3-48CE-B017-39959BAFA7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D6D3-F9C9-45EB-AD3F-B610285D5F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DB0E6-69FA-4BF7-9038-FCC01DDA35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53A-738B-49E0-B3D3-5E4F7A1979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DFB3-DCA4-493A-927F-67D905911D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B300-45E8-4649-AFBA-39A4084032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4767-1BEF-4107-9286-56B480AFC0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D4B-9111-4760-AC3C-E97EB75369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E7A-B2AC-4505-82BF-FD32BC20EE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乘法分配律及简单应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pic>
        <p:nvPicPr>
          <p:cNvPr id="704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2060640"/>
            <a:ext cx="6939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灵活运用知识解决问题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乘减混合运算中运用乘法分配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多个乘加或乘减混合运算中运用乘法分配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灵活运用乘法分配律计算复杂的乘加算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25480" y="1619280"/>
            <a:ext cx="756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生活中的实际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水果店要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箱苹果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箱香蕉，一共要付多少钱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两种方法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水果店上午卖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箱香蕉，下午卖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箱香蕉，这一天卖香蕉共收入多少钱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两种方法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981000"/>
            <a:ext cx="2809800" cy="668520"/>
            <a:chOff x="595440" y="98100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093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081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81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矩形 11"/>
          <p:cNvSpPr/>
          <p:nvPr/>
        </p:nvSpPr>
        <p:spPr>
          <a:xfrm>
            <a:off x="898560" y="3236760"/>
            <a:ext cx="58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方法一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方法二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)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"/>
          <p:cNvSpPr/>
          <p:nvPr/>
        </p:nvSpPr>
        <p:spPr>
          <a:xfrm>
            <a:off x="6534000" y="3349800"/>
            <a:ext cx="1925640" cy="10083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苹果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香蕉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0"/>
          <p:cNvSpPr/>
          <p:nvPr/>
        </p:nvSpPr>
        <p:spPr>
          <a:xfrm>
            <a:off x="1330200" y="5300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方法一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方法二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×5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825480" y="1352520"/>
            <a:ext cx="756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的一个长方形花圃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在这个花圃的四周都围上篱笆，需要多少米的篱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每平方米可以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棵郁金香，这个花圃一共可以种多少棵郁金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7"/>
          <p:cNvSpPr/>
          <p:nvPr/>
        </p:nvSpPr>
        <p:spPr>
          <a:xfrm>
            <a:off x="1547640" y="30686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)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7"/>
          <p:cNvSpPr/>
          <p:nvPr/>
        </p:nvSpPr>
        <p:spPr>
          <a:xfrm>
            <a:off x="1620720" y="5229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×25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825480" y="1268280"/>
            <a:ext cx="741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下面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×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×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×(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×(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4×1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4×7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26"/>
          <p:cNvSpPr/>
          <p:nvPr/>
        </p:nvSpPr>
        <p:spPr>
          <a:xfrm>
            <a:off x="1332000" y="232092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×(7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×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4"/>
          <p:cNvSpPr/>
          <p:nvPr/>
        </p:nvSpPr>
        <p:spPr>
          <a:xfrm>
            <a:off x="4716360" y="232092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×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5"/>
          <p:cNvSpPr/>
          <p:nvPr/>
        </p:nvSpPr>
        <p:spPr>
          <a:xfrm>
            <a:off x="1332000" y="447516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×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7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6"/>
          <p:cNvSpPr/>
          <p:nvPr/>
        </p:nvSpPr>
        <p:spPr>
          <a:xfrm>
            <a:off x="4716360" y="448164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4×(17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4×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800280" y="1125360"/>
            <a:ext cx="780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简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×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×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×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×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×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11"/>
          <p:cNvSpPr/>
          <p:nvPr/>
        </p:nvSpPr>
        <p:spPr>
          <a:xfrm>
            <a:off x="1547640" y="2133720"/>
            <a:ext cx="68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×(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×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5"/>
          <p:cNvSpPr/>
          <p:nvPr/>
        </p:nvSpPr>
        <p:spPr>
          <a:xfrm>
            <a:off x="1527120" y="4470480"/>
            <a:ext cx="68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7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)×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×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852480" y="1378080"/>
            <a:ext cx="71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×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×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×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7"/>
          <p:cNvSpPr/>
          <p:nvPr/>
        </p:nvSpPr>
        <p:spPr>
          <a:xfrm>
            <a:off x="1476360" y="242100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)×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(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852480" y="2060640"/>
            <a:ext cx="71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279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)×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)×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4"/>
          <p:cNvSpPr/>
          <p:nvPr/>
        </p:nvSpPr>
        <p:spPr>
          <a:xfrm>
            <a:off x="1476360" y="263700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)×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(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)]×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×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826920" y="2035080"/>
            <a:ext cx="76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马虎在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错算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他算出的结果与正确结果相差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1"/>
          <p:cNvGrpSpPr/>
          <p:nvPr/>
        </p:nvGrpSpPr>
        <p:grpSpPr>
          <a:xfrm>
            <a:off x="595440" y="1247760"/>
            <a:ext cx="2809800" cy="668520"/>
            <a:chOff x="595440" y="1247760"/>
            <a:chExt cx="2809800" cy="668520"/>
          </a:xfrm>
        </p:grpSpPr>
        <p:sp>
          <p:nvSpPr>
            <p:cNvPr id="693" name="圆角矩形 7"/>
            <p:cNvSpPr/>
            <p:nvPr/>
          </p:nvSpPr>
          <p:spPr>
            <a:xfrm>
              <a:off x="1479600" y="1360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文本框 13"/>
            <p:cNvSpPr/>
            <p:nvPr/>
          </p:nvSpPr>
          <p:spPr>
            <a:xfrm>
              <a:off x="1479600" y="1347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247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矩形 9"/>
          <p:cNvSpPr/>
          <p:nvPr/>
        </p:nvSpPr>
        <p:spPr>
          <a:xfrm>
            <a:off x="1479600" y="343548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11" descr=""/>
          <p:cNvPicPr/>
          <p:nvPr/>
        </p:nvPicPr>
        <p:blipFill>
          <a:blip r:embed="rId2"/>
          <a:stretch/>
        </p:blipFill>
        <p:spPr>
          <a:xfrm>
            <a:off x="7486560" y="2060640"/>
            <a:ext cx="541440" cy="5792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1" descr=""/>
          <p:cNvPicPr/>
          <p:nvPr/>
        </p:nvPicPr>
        <p:blipFill>
          <a:blip r:embed="rId3"/>
          <a:stretch/>
        </p:blipFill>
        <p:spPr>
          <a:xfrm>
            <a:off x="3924360" y="2082960"/>
            <a:ext cx="541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40:48Z</dcterms:modified>
  <cp:revision>1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